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529-088D-4C90-B2D8-1519DF4E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910-8EB7-4472-9FFE-988A21A2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F3F-CD98-41BD-9D0F-6E5382DC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9B8-E3A0-46EC-A7FB-CF16EDEA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C6E-B8B7-4E03-8846-B63A6BF0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810-5565-43B0-8968-84D7F5F9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355-2233-4877-AAAD-97B97127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EAA-8891-4742-9B93-0A60901C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F1E-5F14-4669-B03E-355F50D3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E55-1C37-45A0-8DF1-345FCD8D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6CC-3930-4707-984C-6081B356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2BB-D7C8-474D-A285-9ED98D1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0442-E14D-40C1-8301-C944F127E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metry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, August 27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gle postu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y angles as acute, obtuse or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ines segments with equal measures 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A pair of opposite rays form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HW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: Lesson 1.3, 1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9:25:26Z</dcterms:created>
  <dc:creator>tstephens</dc:creator>
  <dc:description/>
  <dc:language>en-US</dc:language>
  <cp:lastModifiedBy>tstephens</cp:lastModifiedBy>
  <dcterms:modified xsi:type="dcterms:W3CDTF">2010-08-26T19:25:50Z</dcterms:modified>
  <cp:revision>1</cp:revision>
  <dc:subject/>
  <dc:title>Geometry 1 Thursday, August 27, 2009</dc:title>
</cp:coreProperties>
</file>